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D379-FCC5-466E-9108-75CF661F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E720-6658-407E-B8AD-D7BA7BB1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661-68C8-4368-B1C5-F6C0A138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752-7343-4209-A22C-39F3FC50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E782-98FC-43AA-B665-3644656B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096-221B-453C-86FA-7C983637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C6D-23B9-4BF6-AB60-BE2FB152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536-5B7B-4088-8B92-41B82C6A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3B35-31B6-4844-B6D1-9B0F466D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7F96-96BA-4072-8F0C-EF9D3463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A9C-4B29-4CDB-91E5-2EF49E15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9C86-D7A9-49BB-ABD8-E5FF5EE0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2C11-DE1F-49CF-BD2F-8E19C8812B2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3320" y="3656880"/>
            <a:ext cx="542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3333cc"/>
                </a:solidFill>
                <a:latin typeface="Times New Roman"/>
              </a:rPr>
              <a:t>Alexander Medu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3723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 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s a control string according to 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 it reaches a final configuration after read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down automaton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 ru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ed with a uniqu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 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807732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context-fre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recursively enumerable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regul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920" y="2666520"/>
            <a:ext cx="53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9920" y="30470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a turn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with either of its pushdowns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per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93640"/>
            <a:ext cx="80010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Acta Cybernetica, Vol. 2000, No. 4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, p. 653-664, ISSN 0324-721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Fundamenta Informatica, Vol. 2002, No. 16, Amsterdam, NL, p. 399-405, ISSN 0169-2999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9920" y="388548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59128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7142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40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34440"/>
            <a:ext cx="815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 generate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50840" y="5256720"/>
            <a:ext cx="290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43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714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827720"/>
            <a:ext cx="3733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99320" y="5409360"/>
            <a:ext cx="334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CVT</cp:lastModifiedBy>
  <dcterms:modified xsi:type="dcterms:W3CDTF">2006-08-30T14:10:07Z</dcterms:modified>
  <cp:revision>98</cp:revision>
  <dc:subject/>
  <dc:title>Bez nadpisu</dc:title>
</cp:coreProperties>
</file>